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F48-2F66-45D9-A457-4260879B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A4F-4E0A-4054-8D48-AD6A3AF5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308-9028-4FAF-89DB-8C0DF642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311-BD06-4D7C-9EE2-3A2442C0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E7BF-A391-4B23-B521-A222D04D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62EF-282E-4D01-B76A-663C9347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1885-31D5-48C5-A440-A260818A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2EEE-811F-45E4-B2EF-7DE6D187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DD06-A17E-4FBE-9413-E27EF8E5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43C9-16BA-4B63-905A-B1FBB434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EDCC-C107-4B4F-B71B-D2DAEE2A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A7E-1DAB-4BE1-92CE-8B97484C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55CB-0EFE-4145-A5CA-C562B53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4D9E-EF5D-40C7-AF84-78E71230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FF2A-F2B7-4F65-8F63-31DC5CBF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06F6-AC9D-48A4-A6C3-53A757FB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913B-581C-4854-A339-1143B1ED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0A66-EC58-44DA-BCA1-187A33EA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C1CE-24D2-422F-BAC8-ACCFD244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806C-B1AA-418B-B60C-B9300BF3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60E3-147B-45E5-90C1-A7DAC803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B4C3-3BD4-4EED-A774-8C11DEA6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111-C8B0-4714-AFD0-20F6E6F6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077F-32C4-4316-8F6D-0B141CF6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BD7B-96E8-4279-9A45-4B4AC15C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3EE1-440D-49D7-BA10-AB27F7D1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ECC8-63CA-421C-B104-0CFE81A4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2E87-8673-40AC-8D6A-CD58C999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BDAD-05A8-453D-A0C0-ECB7E0D3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1E72-966D-4876-ABD5-E69A8C17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DDF7F-BDC9-4325-BA63-9A724915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0792A-7F11-4F54-85A3-BB546AFF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D574-4E23-4565-A2B3-456F8036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85A-F796-4AFC-98CA-89FC38E5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D0C5-9FB2-4E9E-B6D8-C32C32C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A33B2-90E9-4BC8-954E-2E2018C7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DF97-1462-42D7-83D6-FC7BB944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78AD1-CF25-480E-847F-F19F0C8D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63E43-047F-4583-B2B7-85641A58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4BDC4-9E63-4E59-B159-69D9F5D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2E3D-4BA8-44E3-B9B6-72AF110A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C8A0-2DF2-49A3-B8AB-97F02FA5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6A8D-DC96-4454-9FD6-8F4718E3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BFAC-4657-47A4-B730-60F46D7E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C48-7E25-46AF-9B86-74A3ED60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24487-141E-41BC-BC46-C4F1715A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A945E-CAFD-4E82-A363-1071C3B9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1F1A6-AF8D-41AC-BACE-7120D56A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7069E-1428-4D4A-AD51-6A8D8C60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A6BC8-8678-472A-AC07-7FA52947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0B4B1-A2E1-4BB4-94BE-004F0BE9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3D30D-DF5A-4661-928C-9EECF852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649E1-87BE-4C76-A220-630193D1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7B7A-48BF-438A-A961-E6E04E6E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C1317-3447-43D9-939E-10E8FA4E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013-A386-4D7E-8454-3651F7CD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A3C16-DDBD-403A-AEFD-0699EFE9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8A8D2-6B24-4A77-908E-F4E184B4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C9313-F766-40EC-A106-E14D8E32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128A-9162-43FE-8C41-6ED1BD68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5E26F-3283-4C7E-A1D1-A8BA372B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AA704-EC57-432E-916C-25B9BEE3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1FD7D-C0DB-4601-804E-8B4F538F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5A85F-9E3D-4120-ACBD-D7A6D807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5BBA3-0228-45C8-A048-1085B9F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C1C0B-286A-43F1-8CEB-22DA1E0E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76C-2C33-46BE-8049-ADC6685E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85AD3-E1BD-4004-88E1-BD2D73D0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D5453-8D8E-4FF4-82F9-87255CEE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8138-EE4C-41FA-B42B-C93AEA4D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C8218-66FC-4A98-A54F-8EB75CDC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1CC45-A1E5-465D-8B34-7F692823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3CC52-3D77-4702-9371-4A97D6F4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06A70-DA42-40EE-BBF3-FB69C0D5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4350A-97DB-41E7-9594-E4631697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FE5C5-E7D3-4C94-B21B-3DC55945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58317-4498-44CA-9662-27BC42DA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FA2-5C2E-4E59-9BAD-298BB785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2DBD7-38B2-4443-B865-0BBC2FEC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FCD04-2011-4085-99C5-81C3B922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755D0-34E6-4CC5-BA2C-2D989056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B3B0B-7EBC-418F-A423-3E336FDD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12057-669F-48A2-B21C-5E37B67F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96E-1934-4549-9ED9-03E99D3E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3B9E-96C0-4EFA-9A23-E4FEC062C4CB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6D1B-F55F-4C69-9E4C-0678BB15BE4D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9273-5472-4178-BAFE-6C5FF940EE02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B1A0-4D1E-4A2F-B613-F4D61B43AC62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3CC9-65BE-4957-8F1E-11F279FF6C6F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3D9D-1D2C-4E05-BAF6-F43A08E105A5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47DC-7E7E-4C66-BE5E-2C6069EF4058}" type="slidenum">
              <a:rPr b="0" lang="ru-RU" sz="1200" spc="-1" strike="noStrike">
                <a:solidFill>
                  <a:srgbClr val="b4b1a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Виды японского сада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292720" y="4797000"/>
            <a:ext cx="3517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554"/>
                </a:solidFill>
                <a:latin typeface="Corbel"/>
              </a:rPr>
              <a:t>Автор: Сидоров А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554"/>
                </a:solidFill>
                <a:latin typeface="Corbel"/>
              </a:rPr>
              <a:t>10 «А»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Ресурс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ория искусства японского са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илистика японского са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понский сад. Стать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ебник «МХК» 10 класс по ред.      Л.Г. Емохонов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497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488b"/>
                </a:solidFill>
                <a:latin typeface="Corbel"/>
              </a:rPr>
              <a:t>Цель работы: </a:t>
            </a:r>
            <a:br>
              <a:rPr sz="4800"/>
            </a:br>
            <a:br>
              <a:rPr sz="4800"/>
            </a:b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Провести исследование по истории японского сада и выяснить какие виды японского сада существуют и в чем их особенность.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одержимое 4" descr=""/>
          <p:cNvPicPr/>
          <p:nvPr/>
        </p:nvPicPr>
        <p:blipFill>
          <a:blip r:embed="rId1"/>
          <a:stretch/>
        </p:blipFill>
        <p:spPr>
          <a:xfrm>
            <a:off x="749160" y="1407960"/>
            <a:ext cx="8218800" cy="48466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1258920" y="765000"/>
            <a:ext cx="7416720" cy="7034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Виды японского с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97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488b"/>
                </a:solidFill>
                <a:latin typeface="Corbel"/>
              </a:rPr>
              <a:t>Райский сад</a:t>
            </a:r>
            <a:endParaRPr b="0" lang="en-US" sz="4000" spc="-1" strike="noStrike">
              <a:solidFill>
                <a:srgbClr val="11488b"/>
              </a:solidFill>
              <a:latin typeface="Corbel"/>
            </a:endParaRPr>
          </a:p>
        </p:txBody>
      </p:sp>
      <p:pic>
        <p:nvPicPr>
          <p:cNvPr id="324" name="Рисунок 4" descr="070720_01.jpg"/>
          <p:cNvPicPr/>
          <p:nvPr/>
        </p:nvPicPr>
        <p:blipFill>
          <a:blip r:embed="rId1"/>
          <a:stretch/>
        </p:blipFill>
        <p:spPr>
          <a:xfrm>
            <a:off x="4133880" y="3279600"/>
            <a:ext cx="4510080" cy="33894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684360" y="907920"/>
            <a:ext cx="820872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Первые японские сады, как особый вид искусства, появились в эпоху Хэйан. Это был период формирования первого чисто японского стиля садов – стиля Дзёдо, или природного пейзажа (Дзёдо – «рай, чистая земля, совершенство»). В основном это были дворцовые и усадебные сады, которые в своей основе были светскими, но при этом также сохраняли дух религиозно-философского отношения к природе, а именно идеи культа Будды Амиды. Главной особенностью этого сада было то, что создаваемый в саду пейзаж обязательно должен был быть копией какого-то конкретного природного пейзаж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1332000" y="537372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Храм Феникса (1052) в ансамбле Бёдоин в Уд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Управляющая кнопка: назад 5"/>
          <p:cNvSpPr/>
          <p:nvPr/>
        </p:nvSpPr>
        <p:spPr>
          <a:xfrm>
            <a:off x="874872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Пейзажный сад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pic>
        <p:nvPicPr>
          <p:cNvPr id="329" name="Рисунок 3" descr="7f5BUp2Y.jpg"/>
          <p:cNvPicPr/>
          <p:nvPr/>
        </p:nvPicPr>
        <p:blipFill>
          <a:blip r:embed="rId1"/>
          <a:stretch/>
        </p:blipFill>
        <p:spPr>
          <a:xfrm>
            <a:off x="1109520" y="3786120"/>
            <a:ext cx="3986280" cy="26812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1042920" y="1052280"/>
            <a:ext cx="7850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В ХIV–ХVI веках садово-парковое искусство Японии достигает наивысшего расцвета. К этому времени определились каноны создания японских садов. Сложился и основной стиль японского сада – пейзажный. Заимствованный из Китая, он был доведён японцами до филигранного совершенства на основе национальных традиций и самобытн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5292720" y="5732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Пейзажный сад Коракуэн префектуры Окая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Управляющая кнопка: назад 5"/>
          <p:cNvSpPr/>
          <p:nvPr/>
        </p:nvSpPr>
        <p:spPr>
          <a:xfrm>
            <a:off x="802800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Философские са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Философские типы садов (дзен) создавались в целях медитации при буддийских храмах. К таким садам относятся: сад камней и сад мхов. При их создании используются только камни, гравий и мох. Каждая деталь такого сада способствует, по буддийскому учению дзен, обретению «пустого сердца». Обретение «пустого сердца» _x001f_- так в эстетике дзен обозначается внезапное «пробуждение» сознания, достижение просветления в текущей жизни, чувство слияния с великой Пустотой, которая олицетворяет высшую природу Будд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42920" y="260280"/>
            <a:ext cx="78501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17375e"/>
                </a:solidFill>
                <a:latin typeface="Corbel"/>
              </a:rPr>
              <a:t>Сад храма Рёандзи («храм Умиротворённого дракона») в Киото - вершина японского искусства садов камн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3" descr="kyoto_5.jpg"/>
          <p:cNvPicPr/>
          <p:nvPr/>
        </p:nvPicPr>
        <p:blipFill>
          <a:blip r:embed="rId1"/>
          <a:stretch/>
        </p:blipFill>
        <p:spPr>
          <a:xfrm>
            <a:off x="1901880" y="1768320"/>
            <a:ext cx="5986440" cy="4651560"/>
          </a:xfrm>
          <a:prstGeom prst="rect">
            <a:avLst/>
          </a:prstGeom>
          <a:ln w="0">
            <a:noFill/>
          </a:ln>
        </p:spPr>
      </p:pic>
      <p:sp>
        <p:nvSpPr>
          <p:cNvPr id="337" name="Управляющая кнопка: назад 4"/>
          <p:cNvSpPr/>
          <p:nvPr/>
        </p:nvSpPr>
        <p:spPr>
          <a:xfrm>
            <a:off x="8172360" y="6021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Чайные са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17375e"/>
                </a:solidFill>
                <a:latin typeface="Corbel"/>
              </a:rPr>
              <a:t>Дзэнская культура создала ещё одну замечательную разновидность японского сада – сад чайной церемонии . Он был новым не по форме, но по его функциональному назначению. Сад, ведущий ко входу в чайный домик, выступает важным компонентом в этой церемонии, помогая участникам правильно настроиться на предстоящее действо. Эстетика сада целиком соотносится с идеалами Чайной церемонии: простота, скромность, неброское очарование, духовное единение всех участников церемо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Выводы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10920" y="1052640"/>
            <a:ext cx="82515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Исследовав историю зарождения и развития японского сада мы выделили 4 вида сада: райский сад, являющийся первым видом искусства японского сада, пейзажный  сад, продолживший традиции райского сада, философский сад, приобретший необычный вид  и глубокое религиозно-философское наполнение, а также чайный сад, гармонично сочетающий в себе пейзажный стиль и философию буддизма. Каждый из видов сада по своему оригинален и предполагает достижение определенной цели: постижение мира, получения наслаждения, созерцание прекрасного. На основании изученного нами материала можно сделать следующий вывод. Садово-парковое искусство Японии, более чем какое-либо другое, выражает своеобразное идейное отношение японской нации к природе. Это отношение своими корнями уходит в начало национальной японской религии – синтоизм, начиная по-новому звучать с приходом буддизма и</a:t>
            </a:r>
            <a:r>
              <a:rPr b="0" lang="en-US" sz="2000" spc="-1" strike="noStrike">
                <a:solidFill>
                  <a:srgbClr val="17375e"/>
                </a:solidFill>
                <a:latin typeface="Gill Sans MT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orbel"/>
              </a:rPr>
              <a:t>дзен-буддизма. Каждая грань этой философии  и религии находит отражение в саде, порождая на свет новые его виды, которые тут же становятся тонким искусством и предметом восхищения многих челов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5:26:17Z</dcterms:created>
  <dc:creator>DNA7 X64</dc:creator>
  <dc:description/>
  <dc:language>en-US</dc:language>
  <cp:lastModifiedBy>DNA7 X64</cp:lastModifiedBy>
  <dcterms:modified xsi:type="dcterms:W3CDTF">2011-04-19T03:21:46Z</dcterms:modified>
  <cp:revision>43</cp:revision>
  <dc:subject/>
  <dc:title>Слайд 1</dc:title>
</cp:coreProperties>
</file>